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0A1-AD2A-4437-A656-227874C2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8C4-B513-4547-9D19-95260CE9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A0F-1360-40FF-A14E-7DD84960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B3E-A40B-4A67-B6A4-C4F8A892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96F-9E42-4B68-957F-E45831AC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BEE-9ADB-4AE0-AE2E-8683BC9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1FB-7AF6-43BB-ACD3-B43C22F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640-FB26-486E-A3FB-A9E12ECC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736-596D-43D0-B57F-A47D083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BEB-9D9C-4B10-AAA8-ECFCE3B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C69-0212-4EB2-AC49-6D429A3C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DBA-75EF-4EEC-8D2A-F4EC372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901B-420F-4563-B378-41C4BE62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c/c3/37_Lyndon_Johnson_3x4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mdb.com/rg/mediaindex/thumbnail/media/rm1503631360/nm0000054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z.about.com/d/womenshistory/1/0/z/I/jackie_kennedy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jpeg"/><Relationship Id="rId14" Type="http://schemas.openxmlformats.org/officeDocument/2006/relationships/image" Target="../media/image5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37 Lyndon Johnson 3x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. 1953&#10;Photo by Frank Powol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obert F. Kennedy - Photo"/>
          <p:cNvPicPr/>
          <p:nvPr/>
        </p:nvPicPr>
        <p:blipFill>
          <a:blip r:embed="rId9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 picture of First Lady Jacqueline Kennedy, wife of President John F. 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Robert Frost"/>
          <p:cNvPicPr/>
          <p:nvPr/>
        </p:nvPicPr>
        <p:blipFill>
          <a:blip r:embed="rId12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Robert F. Kennedy - Photo"/>
          <p:cNvPicPr/>
          <p:nvPr/>
        </p:nvPicPr>
        <p:blipFill>
          <a:blip r:embed="rId1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Frisco ISD</cp:lastModifiedBy>
  <dcterms:modified xsi:type="dcterms:W3CDTF">2010-01-21T21:59:46Z</dcterms:modified>
  <cp:revision>16</cp:revision>
  <dc:subject/>
  <dc:title>Profile</dc:title>
</cp:coreProperties>
</file>